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8527-9DCC-42D5-AF7C-E233874E9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Username:  ESC@esc.edu 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assword:    ESCgueston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http://www.accordent.com/resources/sample-presentation.aspx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800-DD0B-4297-9E75-204FED9E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6E4-F73B-45B3-95B9-3F1E34C2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451-9868-42EF-95E6-E0B8336B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12C-17F3-4C5F-837E-27450CED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A5CC-D5E1-4FBA-9B3E-82D0F409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BBEA-D2A2-48BE-B8DC-8D84E35A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6E1F-CF47-48EA-9940-8923868B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1714-1F21-4A62-9674-B04F424A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9978-4156-461F-9343-77538857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7569-1684-4214-A54D-8DF4B441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F04E-300E-4091-8702-DB39291C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E85-1572-4186-8AAF-3DD6D072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4E28-7F1C-492B-87F6-70FC15B2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76FD-F47F-40CB-83AD-D5BA899B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B3F1-C6FD-43F6-A1EA-94E87889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2535-4621-4355-B5C7-81B8FB4B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0D7D-BFF2-4A62-8185-63CD9AE5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95B-77B8-43F4-8473-FC22E54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A9C-1BAA-49DD-9741-D082825A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FB9-02AF-41A8-88BC-754075C2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775-3725-40D7-A852-239D5153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462-30F3-4A11-B3DE-9333AD28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8CC-CD50-4D9F-A30C-D1E33052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819-E76E-4257-B8C3-3293973D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D711-EE44-4A93-97C4-65A99AF63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360A-26E8-49F0-983B-F46B721872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files.empire-edutools.net/accord3z/JohnHughesAccordentTour/main.htm" TargetMode="External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http://mediafiles.empire-edutools.net/accord3z/JohnHughesAccordentTour/main.htm" TargetMode="External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hyperlink" Target="http://mediafiles.empire-edutools.net/accord3z/JohnHughesAccordentTour/main.htm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3949560"/>
            <a:ext cx="7238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Georgia"/>
              </a:rPr>
              <a:t>Create professional looking lecture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Georgia"/>
              </a:rPr>
              <a:t>Immediately stream media files to your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58436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COR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ACULTY WORK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88168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Lisa Rapple, Curriculum Technical Specialist - Center for Distance Learning</a:t>
            </a:r>
            <a:br>
              <a:rPr sz="1200"/>
            </a:b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John Hughes, Assistant Director for Media Recording - Office of Instructional Technology</a:t>
            </a:r>
            <a:br>
              <a:rPr sz="1200"/>
            </a:b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SUNY Empire State College, Saratoga Springs, 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/>
          </p:cNvPr>
          <p:cNvSpPr/>
          <p:nvPr/>
        </p:nvSpPr>
        <p:spPr>
          <a:xfrm>
            <a:off x="533520" y="160020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1- Over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38040" cy="952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05320" y="16765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S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Talking Head with Slides/ANGEL/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/>
          </p:cNvPr>
          <p:cNvSpPr/>
          <p:nvPr/>
        </p:nvSpPr>
        <p:spPr>
          <a:xfrm>
            <a:off x="2666880" y="1523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/>
          </p:cNvPr>
          <p:cNvSpPr/>
          <p:nvPr/>
        </p:nvSpPr>
        <p:spPr>
          <a:xfrm>
            <a:off x="533520" y="312408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2 - Faculty self-ser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5"/>
          </p:cNvPr>
          <p:cNvSpPr/>
          <p:nvPr/>
        </p:nvSpPr>
        <p:spPr>
          <a:xfrm>
            <a:off x="266688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"/>
          </p:cNvPr>
          <p:cNvSpPr/>
          <p:nvPr/>
        </p:nvSpPr>
        <p:spPr>
          <a:xfrm>
            <a:off x="533520" y="457200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3 – Student 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7"/>
          </p:cNvPr>
          <p:cNvSpPr/>
          <p:nvPr/>
        </p:nvSpPr>
        <p:spPr>
          <a:xfrm>
            <a:off x="2666880" y="4495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Lisa Rapple, Curriculum Technical Specialist - Center for Distance Learning</a:t>
            </a:r>
            <a:br>
              <a:rPr sz="1200"/>
            </a:b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John Hughes, Assistant Director for Media Recording - Office of Instructional Technology</a:t>
            </a:r>
            <a:br>
              <a:rPr sz="1200"/>
            </a:b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SUNY Empire State College, Saratoga Springs, 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334120"/>
            <a:ext cx="274320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End User Requirements: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Browser compatibility: Internet Explorer only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Real Media Player 9, 10 or 11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Windows Media Player 9, 10 or 11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No proprietary plug-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14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CCOR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ACULTY WORK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67652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Visiting Expert Lecture Capture with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1676520"/>
            <a:ext cx="4800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Lecture Capture with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1676520"/>
            <a:ext cx="480060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Field Video with Illustrations &amp;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cc"/>
                </a:solidFill>
                <a:latin typeface="Arial"/>
              </a:rPr>
              <a:t>Medical College of Georgia Michael H. Rivner, M.D. Demonstrates a medical procedure with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728720"/>
            <a:ext cx="480060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Lecture Capture with Sl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cc"/>
                </a:solidFill>
                <a:latin typeface="Arial"/>
              </a:rPr>
              <a:t>North Shore-LIJ Sahana Rajasekhara, M.D. Lecture with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8"/>
          </p:cNvPr>
          <p:cNvSpPr/>
          <p:nvPr/>
        </p:nvSpPr>
        <p:spPr>
          <a:xfrm>
            <a:off x="7696080" y="204948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9"/>
          </p:cNvPr>
          <p:cNvSpPr/>
          <p:nvPr/>
        </p:nvSpPr>
        <p:spPr>
          <a:xfrm>
            <a:off x="8153280" y="250668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0"/>
          </p:cNvPr>
          <p:cNvSpPr/>
          <p:nvPr/>
        </p:nvSpPr>
        <p:spPr>
          <a:xfrm>
            <a:off x="6781680" y="288756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1"/>
          </p:cNvPr>
          <p:cNvSpPr/>
          <p:nvPr/>
        </p:nvSpPr>
        <p:spPr>
          <a:xfrm>
            <a:off x="7543800" y="3268800"/>
            <a:ext cx="380880" cy="312480"/>
          </a:xfrm>
          <a:custGeom>
            <a:avLst/>
            <a:gdLst>
              <a:gd name="textAreaLeft" fmla="*/ 20160 w 380880"/>
              <a:gd name="textAreaRight" fmla="*/ 360720 w 380880"/>
              <a:gd name="textAreaTop" fmla="*/ 20160 h 312480"/>
              <a:gd name="textAreaBottom" fmla="*/ 292320 h 312480"/>
            </a:gdLst>
            <a:ahLst/>
            <a:rect l="textAreaLeft" t="textAreaTop" r="textAreaRight" b="textAreaBottom"/>
            <a:pathLst>
              <a:path w="26323" h="21600">
                <a:moveTo>
                  <a:pt x="0" y="0"/>
                </a:moveTo>
                <a:lnTo>
                  <a:pt x="26323" y="0"/>
                </a:lnTo>
                <a:lnTo>
                  <a:pt x="26323" y="21600"/>
                </a:lnTo>
                <a:lnTo>
                  <a:pt x="0" y="21600"/>
                </a:lnTo>
                <a:close/>
              </a:path>
              <a:path fill="lightenLess" w="26323" h="21600">
                <a:moveTo>
                  <a:pt x="0" y="0"/>
                </a:moveTo>
                <a:lnTo>
                  <a:pt x="26323" y="0"/>
                </a:lnTo>
                <a:lnTo>
                  <a:pt x="24923" y="1400"/>
                </a:lnTo>
                <a:lnTo>
                  <a:pt x="1400" y="1400"/>
                </a:lnTo>
                <a:close/>
              </a:path>
              <a:path fill="darken" w="26323" h="21600">
                <a:moveTo>
                  <a:pt x="26323" y="0"/>
                </a:moveTo>
                <a:lnTo>
                  <a:pt x="26323" y="21600"/>
                </a:lnTo>
                <a:lnTo>
                  <a:pt x="24923" y="20200"/>
                </a:lnTo>
                <a:lnTo>
                  <a:pt x="24923" y="1400"/>
                </a:lnTo>
                <a:close/>
              </a:path>
              <a:path fill="darkenLess" w="26323" h="21600">
                <a:moveTo>
                  <a:pt x="26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3" y="20200"/>
                </a:lnTo>
                <a:close/>
              </a:path>
              <a:path fill="lighten" w="26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3" h="21600">
                <a:moveTo>
                  <a:pt x="6155" y="3794"/>
                </a:moveTo>
                <a:lnTo>
                  <a:pt x="20168" y="10800"/>
                </a:lnTo>
                <a:lnTo>
                  <a:pt x="6155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2"/>
          </p:cNvPr>
          <p:cNvSpPr/>
          <p:nvPr/>
        </p:nvSpPr>
        <p:spPr>
          <a:xfrm>
            <a:off x="6629400" y="418320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17880"/>
            <a:ext cx="24382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3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what the Faculty lecture-capture station is and it’s unique featu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John Hughes, Assistant Director of Media Production, O.I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641760"/>
            <a:ext cx="24382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2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how faculty prepare and use the lecture-capture station and more unique featu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Lisa Rapple, Curriculum Technology Specialist, Center for Distanc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105520"/>
            <a:ext cx="24382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4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what the final production looks like to the stud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Lisa Rapple, Curriculum Technology Specialist, Center for Distanc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33:06Z</dcterms:created>
  <dc:creator> Lisa F. Rapple</dc:creator>
  <dc:description/>
  <dc:language>en-US</dc:language>
  <cp:lastModifiedBy>lrapple</cp:lastModifiedBy>
  <dcterms:modified xsi:type="dcterms:W3CDTF">2010-04-21T14:56:21Z</dcterms:modified>
  <cp:revision>18</cp:revision>
  <dc:subject/>
  <dc:title>Slide 1</dc:title>
</cp:coreProperties>
</file>